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D2533-8CDC-4D60-A768-3EF04C842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EFA77-EE46-4F38-86F1-718943DB4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ACFF2-0FC9-4E50-B805-D2DB84364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BBCAF-2E52-4154-A9EA-BEFD9D5A3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4CDAC-E916-4DD1-810E-3565B1D4E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26BB3-D6BB-4EEC-8AB6-D4B3EDBBF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762CC-26E4-4DE4-A930-80EE2826C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F3B8C-D3F4-427A-9BE9-5A47A4A83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A9C48-7959-40C6-9BD1-57E333C08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DC402-F3E1-407F-B855-5F12997FA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A0079-B85D-49A8-97CE-AD157128E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83E69-6CD0-45A1-B4C3-549749413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823A9-4B19-476D-8EC9-38981C7D4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F00BD-11C2-48FC-AEE0-3FD16F6DD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11DAB-BCEE-47B7-887B-BC5E2DB0F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1F126-25FD-48B4-B6FD-56C7091AE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C404B-2E59-4FC3-A94E-509094768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59081-F2BB-4566-8282-1D445D63A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8CE67-F23A-4044-86EB-257702C55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5B0F4-6597-45D8-A7DA-267C351CE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17FF0-E0D8-4858-BCBD-CAEA53F9A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102E1-71F2-42AA-A90A-7E0D26B18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65649-95AE-4659-ADBF-C4123FB24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52F63-78C8-4C63-A4EF-EDC281114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A1738-BCCD-45E2-A53D-48F7B28E975F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69ACA-5341-4068-9231-27FCC665EF02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5796000" cy="12961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Times New Roman"/>
                <a:cs typeface="Akhbar MT"/>
              </a:rPr>
              <a:t>يا من قام من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Times New Roman"/>
                <a:cs typeface="Akhbar MT"/>
              </a:rPr>
              <a:t>بين الأموات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Times New Roman"/>
                <a:cs typeface="Akhbar MT"/>
              </a:rPr>
              <a:t>أحْيِ أجسادَنا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Times New Roman"/>
                <a:cs typeface="Akhbar MT"/>
              </a:rPr>
              <a:t>بروحِك القدّوس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0" y="5010120"/>
            <a:ext cx="5580000" cy="1849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2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000000"/>
                </a:solidFill>
                <a:latin typeface="Tahoma"/>
                <a:cs typeface="????Boutros Rokaa"/>
              </a:rPr>
              <a:t>يا من قام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in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7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8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4859280" cy="1179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000000"/>
                </a:solidFill>
                <a:latin typeface="Times New Roman"/>
                <a:cs typeface="Akhbar MT"/>
              </a:rPr>
              <a:t>أنا القيامة،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000000"/>
                </a:solidFill>
                <a:latin typeface="Times New Roman"/>
                <a:cs typeface="Akhbar MT"/>
              </a:rPr>
              <a:t>من آمن بي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000000"/>
                </a:solidFill>
                <a:latin typeface="Times New Roman"/>
                <a:cs typeface="Akhbar MT"/>
              </a:rPr>
              <a:t>يحيا وإن مات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5796000" cy="12961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Times New Roman"/>
                <a:cs typeface="Akhbar MT"/>
              </a:rPr>
              <a:t>يا من قام من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Times New Roman"/>
                <a:cs typeface="Akhbar MT"/>
              </a:rPr>
              <a:t>بين الأموات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Times New Roman"/>
                <a:cs typeface="Akhbar MT"/>
              </a:rPr>
              <a:t>أحْيِ أجسادَنا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Times New Roman"/>
                <a:cs typeface="Akhbar MT"/>
              </a:rPr>
              <a:t>بروحِك القدّوس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9144000" cy="11063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000000"/>
                </a:solidFill>
                <a:latin typeface="Times New Roman"/>
                <a:cs typeface="Akhbar MT"/>
              </a:rPr>
              <a:t>نحن الذين لنا باكورةُ الروح،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000000"/>
                </a:solidFill>
                <a:latin typeface="Times New Roman"/>
                <a:cs typeface="Akhbar MT"/>
              </a:rPr>
              <a:t>نئنُّ منتظرين التبنّي،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000000"/>
                </a:solidFill>
                <a:latin typeface="Times New Roman"/>
                <a:cs typeface="Akhbar MT"/>
              </a:rPr>
              <a:t>افتداءَ أجسادِنا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5796000" cy="12961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Times New Roman"/>
                <a:cs typeface="Akhbar MT"/>
              </a:rPr>
              <a:t>يا من قام من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Times New Roman"/>
                <a:cs typeface="Akhbar MT"/>
              </a:rPr>
              <a:t>بين الأموات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Times New Roman"/>
                <a:cs typeface="Akhbar MT"/>
              </a:rPr>
              <a:t>أحْيِ أجسادَنا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Times New Roman"/>
                <a:cs typeface="Akhbar MT"/>
              </a:rPr>
              <a:t>بروحِك القدّوس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4211640" y="154080"/>
            <a:ext cx="4211640" cy="13088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000000"/>
                </a:solidFill>
                <a:latin typeface="Times New Roman"/>
                <a:cs typeface="Akhbar MT"/>
              </a:rPr>
              <a:t>إذا كان أحدٌ</a:t>
            </a:r>
            <a:endParaRPr b="0" lang="en-US" sz="8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000000"/>
                </a:solidFill>
                <a:latin typeface="Times New Roman"/>
                <a:cs typeface="Akhbar MT"/>
              </a:rPr>
              <a:t>فـي الـمسيح</a:t>
            </a:r>
            <a:endParaRPr b="0" lang="en-US" sz="8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000000"/>
                </a:solidFill>
                <a:latin typeface="Times New Roman"/>
                <a:cs typeface="Akhbar MT"/>
              </a:rPr>
              <a:t>فهو خلقٌ جديد.</a:t>
            </a:r>
            <a:endParaRPr b="0" lang="en-US" sz="8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5796000" cy="12961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Times New Roman"/>
                <a:cs typeface="Akhbar MT"/>
              </a:rPr>
              <a:t>يا من قام من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Times New Roman"/>
                <a:cs typeface="Akhbar MT"/>
              </a:rPr>
              <a:t>بين الأموات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Times New Roman"/>
                <a:cs typeface="Akhbar MT"/>
              </a:rPr>
              <a:t>أحْيِ أجسادَنا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Times New Roman"/>
                <a:cs typeface="Akhbar MT"/>
              </a:rPr>
              <a:t>بروحِك القدّوس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5T12:55:35Z</dcterms:created>
  <dc:creator>Charbel Azar</dc:creator>
  <dc:description/>
  <dc:language>en-US</dc:language>
  <cp:lastModifiedBy>ف</cp:lastModifiedBy>
  <dcterms:modified xsi:type="dcterms:W3CDTF">2006-04-17T20:34:29Z</dcterms:modified>
  <cp:revision>10</cp:revision>
  <dc:subject/>
  <dc:title>Slide 1</dc:title>
</cp:coreProperties>
</file>